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65DD-B1B7-4476-834A-F348B06A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6DB3-4F57-4391-853E-D1BA79D0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52CD-3918-4D57-A6DD-F0A99825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2DDA-7F4F-4226-99CB-96F79754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8BBE-B731-49D5-B543-CD3A65E7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0D64-5EF3-45BC-869D-BEC82BE1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1C33-0EC1-4564-B97E-3269984F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D669-C891-4687-8510-6A3139CA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E2C4-FF12-4DF4-B0BB-31F6DAE5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D756-166E-44B0-A73F-B00B97BB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BDAD-6C9E-4A00-AAD6-6DA9EE11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4307-D241-47BC-B799-EF101351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244A-8B27-4E40-9529-74C5EE1A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1B70-E8D2-4AF5-8E3C-8657D22E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0240-8CB8-434F-95A7-6F5744EE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2FA5-4A5E-48AD-95FD-D5D9ACD1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227E-FF16-434C-B161-92CDF4A6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C21B-04DE-4E1B-8B5C-958CE834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DF2D-0B6C-494E-B65E-00831A93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5AA8-3845-4DAA-BECE-D028C944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2ED1-5D0D-4603-8272-401FC267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5A7D-01A1-4951-ACEA-9DA87900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3CCE-0A77-4929-A535-7E068387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3DC9-ED87-400C-9F82-78345CFE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B9A4-8D76-4FF9-AD2D-3A170990AFF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70E2-DD4F-4576-A2D2-6B573621898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FC’s propos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Yu R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yung R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eong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hl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Yuan 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438280" y="3049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of cylinder = Radiu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π x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Height = 3 x Di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2R(Diameter) x 3 x π = 245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6R = 78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R = 13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2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362320" y="228600"/>
            <a:ext cx="6400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Radius, find the he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2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H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π = 245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about 14.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ng the Total Surface area of the cylin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.3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πx 2) + (2.35x2xπx14.2) = 227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7.02 x 14 = Cost of the Metal 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l sheet cost = $342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ng the Concrete volu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rete would have 0.5 meters added to the original container. the concrete’s radius = 2.85 height =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of concrete = 2.8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π x 0.2 = 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st of concrete = 5.1 x 640 = $32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TOTAL COST = $3421.6+$3264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$6685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086280" y="914400"/>
            <a:ext cx="49147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Grain stora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8600" y="56674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images.google.com/images?gbv=2&amp;&amp;hl=en&amp;newwindow=1&amp;q=rice+storage&amp;&amp;sa=N&amp;start=54&amp;ndsp=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Food Storage - Cylinder with pointy roof"/>
          <p:cNvPicPr/>
          <p:nvPr/>
        </p:nvPicPr>
        <p:blipFill>
          <a:blip r:embed="rId2"/>
          <a:stretch/>
        </p:blipFill>
        <p:spPr>
          <a:xfrm>
            <a:off x="4724280" y="228600"/>
            <a:ext cx="3962520" cy="5410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724280" y="60958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engie-crops.com/media/silos%20and%20lorry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What we found out 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in our research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One adult eats .25kg of rice per m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If there are 4 people in the family, even though the children wouldn’t eat as much as adults, but we will just make it 1kg for a family, in case extras members, and foo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1x50x14=700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is it the best solution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adius: 0.3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ase area: 0.3m^2 (3.14x0.3^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eight: 3.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ircumference: 1.9m (3.14x0.3x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A of the height: 6.7m^2 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SA: 6.9m^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st of metal: $9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ncrete:0.2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ncrete cost: $144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otal cost: 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$2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is it the best solution?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ylinder because it has the largest area with a fixed perime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akes up all the rice we need without wasting a lot of volumes and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we found the solution (justification)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lin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kg goes into 700000cm^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= 0.7m^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us^2 x pi x height = 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 is diameter x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meter is 2x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height= radius x 2 x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us^2 x radius x 2 x 3 x pi=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us^2x radiusx2x3=0.7/p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≈0.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dius^2x Radius =0.22/6 ≈0.0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us^3=0.0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us=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31400" y="5048280"/>
            <a:ext cx="345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itation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8280" y="1295280"/>
            <a:ext cx="6400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엽서체"/>
              </a:rPr>
              <a:t>Mathematics: water and grain storage facility pro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엽서체"/>
              </a:rPr>
              <a:t>. 30 Nov. 2008 &lt;http://www.uswitch.com/water/ how-much-water-use/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엽서체"/>
              </a:rPr>
              <a:t>Mathematics: water and grain storage facility pro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엽서체"/>
              </a:rPr>
              <a:t>. 30 Nov. 2008 &lt;http://blog.naver.com/leemail07?Redirect=Log&amp;logNo=40034391615&gt;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엽서체"/>
              </a:rPr>
              <a:t>Mathematics: water and grain storage facilit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엽서체"/>
              </a:rPr>
              <a:t>. 30 Nov. 2008 &lt;http://www.querycat.com/faq/ f4c59fee94b30846229276c79121f335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엽서체"/>
              </a:rPr>
              <a:t>Mathematics: water and grain storage facility pro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엽서체"/>
              </a:rPr>
              <a:t>. 30 Nov. 2008 &lt;http://wiki.answers.com/Q/How_many_ml_of_water_does_a_person_need_a_day&gt;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엽서체"/>
              </a:rPr>
              <a:t>Mathematics: water and grain storage facility pro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엽서체"/>
              </a:rPr>
              <a:t>. 30 Nov. 2008 &lt;http://www.hc-sc.gc.ca/fn-an/ food-guide-aliment/basics-base/quantit-eng.php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엽서체"/>
              </a:rPr>
              <a:t>Seong Min's personal interview with his math tutor. 30 Nov.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athematics: water and grain storage facility pro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30 Nov. 2008 &lt;http://www.data360.org/ dsg.aspx?Data_Set_Group_Id=75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athematics: water and grain storage facilty proj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30 Nov. 2008 &lt;www.snopes.com/medical/myths/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glasses.asp&gt;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엽서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5640" y="1143000"/>
            <a:ext cx="6553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r the past few weeks KFC had being aiming to design, and price, a water and grain storage facility for a village that has fifty famil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storage facility must be able to contain a two week supply of water and g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walls and roof of the facility will be made out of metal sheet that costs $14 per m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facility must be placed on a 20cm thick concrete floor. The concrete costs $640 per m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e must make every effort to keep the cost as low as poss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many people’s in a family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had shown that the average population of a family is around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(two adults and two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50x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1=200±50 people are included in this 50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590920" y="1752480"/>
            <a:ext cx="56768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Water Stora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920" y="57150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lobalspec.com/NpaPics/98/151694_081120042854_ExhibitPic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76920" y="304920"/>
            <a:ext cx="3743280" cy="5695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876920" y="6216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fruitland.org/vertical/Sites/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c0039"/>
                </a:solidFill>
                <a:latin typeface="Arial"/>
              </a:rPr>
              <a:t>What we found out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8c0039"/>
                </a:solidFill>
                <a:latin typeface="Arial"/>
              </a:rPr>
              <a:t>in our research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362320" y="11430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n real life: water are stored in cyli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ach person needs abou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17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Li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50 Families would need water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245700 Li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ilet Flu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0 Li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4 Li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ing Clot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6 Li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ing Dis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4 Li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k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 Li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nk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 Li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7 Li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What is it the best solution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7920" y="837720"/>
            <a:ext cx="3962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ylind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ircle gives the biggest area, but a sphere wouldn’t be as stable, therefore we chose cylinder prism with circle on the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linder with Radius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35me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eight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4.2 me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cost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$6685.6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477120" y="1219320"/>
          <a:ext cx="266688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1219320"/>
                    <a:ext cx="266688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is it the best solution?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91440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families would need 245700 liters for li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Liter is converted to 1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5700 Liters = 245.7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research, found that larger height makes the shape to be cheaper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Because the concrete base is the most expensive part of the whole building, so we are trying to keep the bottom area as small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base cannot be too small and just tall, because then it will collapse very eas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we found the solution (justification)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ing on which dimension is the best. (Longest he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event the building from falling sideways, the diameter of the base has to be 3~4 times smaller than height maxim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03:35:03Z</dcterms:created>
  <dc:creator>Yuan ke</dc:creator>
  <dc:description/>
  <dc:language>en-US</dc:language>
  <cp:lastModifiedBy>sony</cp:lastModifiedBy>
  <dcterms:modified xsi:type="dcterms:W3CDTF">2008-12-02T06:17:21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